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CBB5-6A81-45A7-B3A4-282A21A2E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librarymavens.wikispaces.com (location of original English Version)</a:t>
            </a:r>
            <a:br>
              <a:rPr sz="1200"/>
            </a:br>
            <a:br>
              <a:rPr sz="1200"/>
            </a:br>
            <a:r>
              <a:rPr b="0" lang="en-US" sz="1200" spc="-1" strike="noStrike">
                <a:solidFill>
                  <a:srgbClr val="000000"/>
                </a:solidFill>
                <a:latin typeface="Calibri"/>
              </a:rPr>
              <a:t>You should feel free to customize any ideas that you find here, just be sure to give credit somehow in your customization to the person who originated the ideas or created the materials. We are not doing this for financial gain. We know everyone's work load is staggering, but if we share with one another, the work load will be a bit lighter.</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A4C5-05CF-4AB9-8925-A153F0800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5273-CECD-4BDB-A7C1-D299B3315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9CE8-8256-48D5-9C7C-E9DD4C5AF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33F2-B0AF-4139-975C-A47175367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as Jean Lafitte? He was born in 1782, and came to Louisiana in 1803 with his brother Pierre. They were raised by their grandmother after their mother died.  She told them of her flight from Spain to France with their mother to escape the Inquisition, which tortured and murdered their grandfather. Jean and Lafitte became pirates, or privateers, and eventually moved to New Orleans, where they bought a blacksmith shop. You can still see the blacksmith shop in New Orleans toda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7347-93C4-4A97-8E02-09FF77D7A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 all the pirates to hoard treasures in Louisiana, there were two brothers that had the most success: Jean and Pierre Lafitte. The Lafitte brothers ruled over 1,000 pirates, 50 ships, and after ten years of smuggling, had $10,000,000. In today's terms, that would be about $100 mill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664D-1E0A-4264-85F5-FD8989711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ke pirates in stories, Jean and Pierre buried their treasure. They made treasure maps with secret symbols. The Lafitte brothers and their fellow pirates are said to have buried treasure all over, including places near Baton Rouge, and beneath the floor in Lafitte's blacksmith shop in New Orlean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777B-A6E0-47E9-8770-A4E4A476C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hough many people disliked the Lafitte brothers (they were pirates, after all), they were never arrested. In 1813 the governor of Louisiana offered $500 for Lafitte's capture, but Lafitte turned around and offered $1,500 as a bounty for the governor's head, which ended Lafitte's problem with the governo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BCE2-9134-490B-B82C-867165A06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1814 Great Britain dispatched an armada and 8,000 men to take Louisiana.  The British offered Lafitte 30,000 pounds sterling and a commission in the British Navy if he would help them take New Orleans, with his band of pirates and ships. Lafitte pretended to accept the British offer but instead sent word to New Orleans that invasion was imminent. In exchange for a governor's pardon he and his buccaneers would help defend the city.</a:t>
            </a:r>
            <a:br>
              <a:rPr sz="1200"/>
            </a:br>
            <a:br>
              <a:rPr sz="1000"/>
            </a:br>
            <a:br>
              <a:rPr sz="10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4640-BC33-4327-BB5D-B93341982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ean and Pierre guided the American forces through the marshland maze. An assortment of 4,000 Tennesseans, Choctaw tribesmen, free blacks, Creoles and of course pirates defeated the British in the Battle of New Orleans. President James Madison gave presidential pardons to Jean Lafitte and the buccaneers.</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90F7-2F5A-46CF-A0C8-243EB294B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e swamp lands around Barrataria Island, Lafitte and 1000 of his pirates built a pirates paradise home. They lived there for several years, preying on ships that passed on the way to New Orlean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B1C4-4F0A-47C4-9316-63ED2F422D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2D30-24EF-42B9-AD38-899DB3E4A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D2A76-5ACF-46AC-BDFA-1844E589C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05859-A180-47F1-B4A2-8B26BAE53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43931-3AC5-4622-B309-3FC6C8409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F7F11-89ED-4B8B-BA17-DC9669CD0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B12BD-572B-4175-9B05-88B2B355E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0C9D7-F41E-4B1F-85BF-29DFB4972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0C7EC-3997-48F3-92E8-7C8B86D2F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B442C-14E4-44B4-AE13-5A48FF854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7BFE9-E79C-461B-BE25-ACEE253B1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5DEF4-58C0-4017-B88F-EA2997016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3FA1E-DFF1-4679-B6D1-CE51E8574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A4083-2819-4A4E-8A1D-9F6BBB5FC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6ACF-BE4C-4C1B-9B41-3FE37711BD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librarymavens.wikispaces.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04920" y="30492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LAFITTE, LE PIRATE ET PATRIOTE DE LA LOUISIAN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49" name="Picture 6" descr=""/>
          <p:cNvPicPr/>
          <p:nvPr/>
        </p:nvPicPr>
        <p:blipFill>
          <a:blip r:embed="rId1"/>
          <a:stretch/>
        </p:blipFill>
        <p:spPr>
          <a:xfrm>
            <a:off x="2286000" y="2514600"/>
            <a:ext cx="4346640" cy="4168800"/>
          </a:xfrm>
          <a:prstGeom prst="rect">
            <a:avLst/>
          </a:prstGeom>
          <a:ln w="31680">
            <a:solidFill>
              <a:srgbClr val="000000"/>
            </a:solidFill>
            <a:miter/>
          </a:ln>
        </p:spPr>
      </p:pic>
      <p:sp>
        <p:nvSpPr>
          <p:cNvPr id="50" name="Rectangle 7"/>
          <p:cNvSpPr/>
          <p:nvPr/>
        </p:nvSpPr>
        <p:spPr>
          <a:xfrm>
            <a:off x="2438280" y="1371600"/>
            <a:ext cx="84582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He left a corsair’s name to other times, </a:t>
            </a:r>
            <a:br>
              <a:rPr sz="2000"/>
            </a:br>
            <a:r>
              <a:rPr b="0" i="1" lang="en-US" sz="2000" spc="-1" strike="noStrike">
                <a:solidFill>
                  <a:srgbClr val="000000"/>
                </a:solidFill>
                <a:latin typeface="Book Antiqua"/>
              </a:rPr>
              <a:t>Linked one virtue to a thousand crim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 Lord Byr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0721n_galveston_Lafitte.jpg"/>
          <p:cNvPicPr/>
          <p:nvPr/>
        </p:nvPicPr>
        <p:blipFill>
          <a:blip r:embed="rId1"/>
          <a:stretch/>
        </p:blipFill>
        <p:spPr>
          <a:xfrm>
            <a:off x="4572000" y="0"/>
            <a:ext cx="4361040" cy="6858000"/>
          </a:xfrm>
          <a:prstGeom prst="rect">
            <a:avLst/>
          </a:prstGeom>
          <a:ln w="0">
            <a:noFill/>
          </a:ln>
        </p:spPr>
      </p:pic>
      <p:sp>
        <p:nvSpPr>
          <p:cNvPr id="69" name="TextBox 2"/>
          <p:cNvSpPr/>
          <p:nvPr/>
        </p:nvSpPr>
        <p:spPr>
          <a:xfrm>
            <a:off x="228600" y="304920"/>
            <a:ext cx="41148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s  tard, Jean Lafitte est allé vivre à Galveston au Texas.  Il a aidé les mexicains contre les espagnols et a travaillé avec James Bow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s le président Madison voulait la paix avec l’Espagne et Lafitte refusait d’arrêter à attaquer les espagnols alors Madison voulait attaquer Lafit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fitte a brulé l’isle de Galveston et est part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ne l’a jamais retrouv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ules, les histoires rest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
          <p:cNvPicPr/>
          <p:nvPr/>
        </p:nvPicPr>
        <p:blipFill>
          <a:blip r:embed="rId1"/>
          <a:stretch/>
        </p:blipFill>
        <p:spPr>
          <a:xfrm>
            <a:off x="-304920" y="-228600"/>
            <a:ext cx="9753840" cy="7315200"/>
          </a:xfrm>
          <a:prstGeom prst="rect">
            <a:avLst/>
          </a:prstGeom>
          <a:ln w="0">
            <a:noFill/>
          </a:ln>
        </p:spPr>
      </p:pic>
      <p:sp>
        <p:nvSpPr>
          <p:cNvPr id="71" name="WordArt 6"/>
          <p:cNvSpPr txBox="1"/>
          <p:nvPr/>
        </p:nvSpPr>
        <p:spPr>
          <a:xfrm>
            <a:off x="2971800" y="1447920"/>
            <a:ext cx="3276720" cy="2709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in!</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133360" y="2666520"/>
            <a:ext cx="4724280" cy="175284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Powerpoint  from </a:t>
            </a:r>
            <a:r>
              <a:rPr b="0" lang="en-US" sz="2000" spc="-1" strike="noStrike" u="sng">
                <a:solidFill>
                  <a:srgbClr val="ccccff"/>
                </a:solidFill>
                <a:uFillTx/>
                <a:latin typeface="Times New Roman"/>
                <a:hlinkClick r:id="rId1"/>
              </a:rPr>
              <a:t>http://librarymavens.wikispaces.com</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loaded10/7/2009</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ified by Michael Wo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
          <p:cNvPicPr/>
          <p:nvPr/>
        </p:nvPicPr>
        <p:blipFill>
          <a:blip r:embed="rId1"/>
          <a:stretch/>
        </p:blipFill>
        <p:spPr>
          <a:xfrm>
            <a:off x="228600" y="228600"/>
            <a:ext cx="6032520" cy="4267080"/>
          </a:xfrm>
          <a:prstGeom prst="rect">
            <a:avLst/>
          </a:prstGeom>
          <a:ln w="28440">
            <a:solidFill>
              <a:srgbClr val="000000"/>
            </a:solidFill>
            <a:miter/>
          </a:ln>
        </p:spPr>
      </p:pic>
      <p:sp>
        <p:nvSpPr>
          <p:cNvPr id="52" name="TextBox 5"/>
          <p:cNvSpPr/>
          <p:nvPr/>
        </p:nvSpPr>
        <p:spPr>
          <a:xfrm>
            <a:off x="377280" y="4648320"/>
            <a:ext cx="84225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an Lafitte est né en 1782</a:t>
            </a:r>
            <a:br>
              <a:rPr sz="2400"/>
            </a:br>
            <a:r>
              <a:rPr b="0" lang="en-US" sz="2400" spc="-1" strike="noStrike">
                <a:solidFill>
                  <a:srgbClr val="000000"/>
                </a:solidFill>
                <a:latin typeface="Times New Roman"/>
              </a:rPr>
              <a:t>Il est arrivé en Louisiane en 1803 avec son frère Pierre</a:t>
            </a:r>
            <a:br>
              <a:rPr sz="2400"/>
            </a:br>
            <a:r>
              <a:rPr b="0" lang="en-US" sz="2400" spc="-1" strike="noStrike">
                <a:solidFill>
                  <a:srgbClr val="000000"/>
                </a:solidFill>
                <a:latin typeface="Times New Roman"/>
              </a:rPr>
              <a:t>Ils vivaient avec leur grand-mère parce que leur  mère est mor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s sont tous les deux devenus pirates (boucaniers) et ont acheté ce </a:t>
            </a:r>
            <a:br>
              <a:rPr sz="2400"/>
            </a:br>
            <a:r>
              <a:rPr b="0" lang="en-US" sz="2400" spc="-1" strike="noStrike">
                <a:solidFill>
                  <a:srgbClr val="000000"/>
                </a:solidFill>
                <a:latin typeface="Times New Roman"/>
              </a:rPr>
              <a:t>“blacksmith shop”  à Nouvelle Orléans.  Le marché existe toujou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762120" y="533520"/>
            <a:ext cx="4114800" cy="5573520"/>
          </a:xfrm>
          <a:prstGeom prst="rect">
            <a:avLst/>
          </a:prstGeom>
          <a:ln w="28440">
            <a:solidFill>
              <a:srgbClr val="000000"/>
            </a:solidFill>
            <a:miter/>
          </a:ln>
        </p:spPr>
      </p:pic>
      <p:sp>
        <p:nvSpPr>
          <p:cNvPr id="54" name="TextBox 5"/>
          <p:cNvSpPr/>
          <p:nvPr/>
        </p:nvSpPr>
        <p:spPr>
          <a:xfrm>
            <a:off x="5029200" y="1143000"/>
            <a:ext cx="38862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deux frères (Pierre et Jean) ont eu le plus de succès.  Ils commandaient 1.000 pirates, cinquante navires et ont gagné plus de  $10,000,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2895480" y="228600"/>
            <a:ext cx="3810240" cy="3809880"/>
          </a:xfrm>
          <a:prstGeom prst="rect">
            <a:avLst/>
          </a:prstGeom>
          <a:ln w="28440">
            <a:solidFill>
              <a:srgbClr val="000000"/>
            </a:solidFill>
            <a:miter/>
          </a:ln>
        </p:spPr>
      </p:pic>
      <p:sp>
        <p:nvSpPr>
          <p:cNvPr id="56" name="Rectangle 3"/>
          <p:cNvSpPr/>
          <p:nvPr/>
        </p:nvSpPr>
        <p:spPr>
          <a:xfrm>
            <a:off x="685800" y="4179960"/>
            <a:ext cx="79246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e beaucoup de pirates, Jean et Pierre ont caché leur trésor.  Ils ont écrit des cartes avec des symboles secrètes.  Ils ont caché leur trésor dans beaucoup d’endroits (places) en Louisiane.  Ils ont même caché du trésor sous le plancher (under the floor) de leur march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609480" y="0"/>
            <a:ext cx="4343400" cy="693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aucoup de personnes détestaient les frères parce qu’ils étaient des pirates, mais ils n’ont jamais été arrêté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1813, le gouverneur de la Louisiane a offert $500 pour la capture de Jean Lafitte, mais Jean Lafitte a offert $1500 pour la tête du gouverneur et il n’avait plus de problèmes avec le gouverneur.</a:t>
            </a:r>
            <a:endParaRPr b="0" lang="en-US" sz="2800" spc="-1" strike="noStrike">
              <a:solidFill>
                <a:srgbClr val="000000"/>
              </a:solidFill>
              <a:latin typeface="Times New Roman"/>
            </a:endParaRPr>
          </a:p>
        </p:txBody>
      </p:sp>
      <p:pic>
        <p:nvPicPr>
          <p:cNvPr id="58" name="Picture 4" descr=""/>
          <p:cNvPicPr/>
          <p:nvPr/>
        </p:nvPicPr>
        <p:blipFill>
          <a:blip r:embed="rId1"/>
          <a:stretch/>
        </p:blipFill>
        <p:spPr>
          <a:xfrm>
            <a:off x="5791320" y="228600"/>
            <a:ext cx="2981160" cy="64771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
          <p:cNvPicPr/>
          <p:nvPr/>
        </p:nvPicPr>
        <p:blipFill>
          <a:blip r:embed="rId1"/>
          <a:stretch/>
        </p:blipFill>
        <p:spPr>
          <a:xfrm>
            <a:off x="2209680" y="152280"/>
            <a:ext cx="4486320" cy="3124440"/>
          </a:xfrm>
          <a:prstGeom prst="rect">
            <a:avLst/>
          </a:prstGeom>
          <a:ln w="28440">
            <a:solidFill>
              <a:srgbClr val="000000"/>
            </a:solidFill>
            <a:miter/>
          </a:ln>
        </p:spPr>
      </p:pic>
      <p:sp>
        <p:nvSpPr>
          <p:cNvPr id="60" name="Rectangle 4"/>
          <p:cNvSpPr/>
          <p:nvPr/>
        </p:nvSpPr>
        <p:spPr>
          <a:xfrm>
            <a:off x="838080" y="335268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1814 Angleterre a envoyé beaucoup de navires et 8.000 hommes pour attaquer la Louisiane.  Les angalis ont offert à Lafitte 30,000 pounds sterling et un poste avec “the Britsh Navy” s’il les aidait à capturer la Nouvelle Orléans avec ses pirates et avec ses navires. Lafitte a dit oui, mais a dit au gouverneur de Louisiane que les anglais arraivaient rapidement.  Le gouverneur a promis de pardonner Lafitte s’il aidait les américains contre les angla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533520" y="350532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an et Pierre ont guidé les forces américaines à travers la marée (the swamp). 4.000 hommes ont battu les anglais dans la bataille de la Nouelle Orléans.  Il y avait des hommes de Tennessee, des indiens Choctaw, des hommes créoles, des noirs libres et des pirates dans le groupe.  Le président James Madison a officiellement pardonné Jean Lafitte et les boucaniers.</a:t>
            </a:r>
            <a:br>
              <a:rPr sz="2400"/>
            </a:br>
            <a:endParaRPr b="0" lang="en-US" sz="2400" spc="-1" strike="noStrike">
              <a:solidFill>
                <a:srgbClr val="000000"/>
              </a:solidFill>
              <a:latin typeface="Times New Roman"/>
            </a:endParaRPr>
          </a:p>
        </p:txBody>
      </p:sp>
      <p:pic>
        <p:nvPicPr>
          <p:cNvPr id="62" name="Picture 6" descr=""/>
          <p:cNvPicPr/>
          <p:nvPr/>
        </p:nvPicPr>
        <p:blipFill>
          <a:blip r:embed="rId1"/>
          <a:stretch/>
        </p:blipFill>
        <p:spPr>
          <a:xfrm>
            <a:off x="3149640" y="228600"/>
            <a:ext cx="2660760" cy="28954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523880" y="380880"/>
            <a:ext cx="6019920" cy="3616560"/>
          </a:xfrm>
          <a:prstGeom prst="rect">
            <a:avLst/>
          </a:prstGeom>
          <a:ln w="28440">
            <a:solidFill>
              <a:srgbClr val="000000"/>
            </a:solidFill>
            <a:miter/>
          </a:ln>
        </p:spPr>
      </p:pic>
      <p:sp>
        <p:nvSpPr>
          <p:cNvPr id="64" name="Text Box 3"/>
          <p:cNvSpPr/>
          <p:nvPr/>
        </p:nvSpPr>
        <p:spPr>
          <a:xfrm>
            <a:off x="1066680" y="4343400"/>
            <a:ext cx="74678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ns la marée près de l’isle Barrataria, Lafitte et 1.000 de ses pirates ont construit une maison de rêves.  Ils ont habité là pour quelques années et ont attaqué les navires qui allaient à la Nouvelle Orléa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
          <p:cNvPicPr/>
          <p:nvPr/>
        </p:nvPicPr>
        <p:blipFill>
          <a:blip r:embed="rId1"/>
          <a:stretch/>
        </p:blipFill>
        <p:spPr>
          <a:xfrm>
            <a:off x="0" y="3240"/>
            <a:ext cx="9144000" cy="6854760"/>
          </a:xfrm>
          <a:prstGeom prst="rect">
            <a:avLst/>
          </a:prstGeom>
          <a:ln w="0">
            <a:noFill/>
          </a:ln>
        </p:spPr>
      </p:pic>
      <p:sp>
        <p:nvSpPr>
          <p:cNvPr id="66" name="AutoShape 8"/>
          <p:cNvSpPr/>
          <p:nvPr/>
        </p:nvSpPr>
        <p:spPr>
          <a:xfrm>
            <a:off x="7086600" y="6248520"/>
            <a:ext cx="304920" cy="457200"/>
          </a:xfrm>
          <a:prstGeom prst="upArrow">
            <a:avLst>
              <a:gd name="adj1" fmla="val 50000"/>
              <a:gd name="adj2" fmla="val 374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WordArt 9"/>
          <p:cNvSpPr txBox="1"/>
          <p:nvPr/>
        </p:nvSpPr>
        <p:spPr>
          <a:xfrm>
            <a:off x="3657600" y="5700600"/>
            <a:ext cx="2523960" cy="1157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Garamond"/>
              </a:rPr>
              <a:t>Barrataria Bay</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Garamond"/>
              <a:ea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ppt_x"/>
                                          </p:val>
                                        </p:tav>
                                        <p:tav tm="100000">
                                          <p:val>
                                            <p:strVal val="#ppt_x"/>
                                          </p:val>
                                        </p:tav>
                                      </p:tavLst>
                                    </p:anim>
                                    <p:anim calcmode="lin" valueType="num">
                                      <p:cBhvr additive="base">
                                        <p:cTn id="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67"/>
                                        </p:tgtEl>
                                        <p:attrNameLst>
                                          <p:attrName>style.visibility</p:attrName>
                                        </p:attrNameLst>
                                      </p:cBhvr>
                                      <p:to>
                                        <p:strVal val="visible"/>
                                      </p:to>
                                    </p:set>
                                    <p:anim calcmode="lin" valueType="num">
                                      <p:cBhvr additive="base">
                                        <p:cTn id="13" dur="500" fill="hold"/>
                                        <p:tgtEl>
                                          <p:spTgt spid="67"/>
                                        </p:tgtEl>
                                        <p:attrNameLst>
                                          <p:attrName>ppt_x</p:attrName>
                                        </p:attrNameLst>
                                      </p:cBhvr>
                                      <p:tavLst>
                                        <p:tav tm="0">
                                          <p:val>
                                            <p:strVal val="1+#ppt_w/2"/>
                                          </p:val>
                                        </p:tav>
                                        <p:tav tm="100000">
                                          <p:val>
                                            <p:strVal val="#ppt_x"/>
                                          </p:val>
                                        </p:tav>
                                      </p:tavLst>
                                    </p:anim>
                                    <p:anim calcmode="lin" valueType="num">
                                      <p:cBhvr additive="base">
                                        <p:cTn id="14"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2T14:56:19Z</dcterms:created>
  <dc:creator>Teri Copponex</dc:creator>
  <dc:description/>
  <dc:language>en-US</dc:language>
  <cp:lastModifiedBy>Debbie</cp:lastModifiedBy>
  <dcterms:modified xsi:type="dcterms:W3CDTF">2009-10-08T12:06:03Z</dcterms:modified>
  <cp:revision>16</cp:revision>
  <dc:subject/>
  <dc:title>PowerPoint Presentation</dc:title>
</cp:coreProperties>
</file>